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225054"/>
        <c:axId val="29633653"/>
      </c:barChart>
      <c:catAx>
        <c:axId val="822250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633653"/>
        <c:crosses val="autoZero"/>
        <c:auto val="1"/>
        <c:lblAlgn val="ctr"/>
        <c:lblOffset val="100"/>
        <c:noMultiLvlLbl val="0"/>
      </c:catAx>
      <c:valAx>
        <c:axId val="296336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2250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6F91-AD19-4A13-A91B-566CA72D7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BE87-A907-4B7E-A6AF-D44AA90E9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4617-32D6-481B-8A02-34B898F7C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9C4A-0EAD-4D65-BC5B-8889C1EBC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DBB5-DF53-4452-BF72-9760374BB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4CAF-48C8-410D-9A99-8E7C6548E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9B91-427A-46CB-BB6B-0A4591748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02B9-7EE4-4D05-BD34-CF8BFCA78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B06E-0E16-4AC0-9FD7-58C74E70F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E4EE-2C4D-4216-988B-76D9DBD1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D3CF-D39B-429E-842E-17304391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49BB-8B67-49DD-8EB5-F2A7CF62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962A2F-8C8D-4295-9CB0-F1372805441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