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44304"/>
        <c:axId val="48704631"/>
      </c:barChart>
      <c:catAx>
        <c:axId val="731443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04631"/>
        <c:crosses val="autoZero"/>
        <c:auto val="1"/>
        <c:lblAlgn val="ctr"/>
        <c:lblOffset val="100"/>
        <c:noMultiLvlLbl val="0"/>
      </c:catAx>
      <c:valAx>
        <c:axId val="487046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443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22FF-0E9D-4541-8F5B-6054CD6F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C6BD-384B-476B-A041-995F15A7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FCD-FFF5-4F95-AE00-B3BC29F1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BC4E-3E28-4E8B-939D-5CDED342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D57A-D7E6-4439-9287-40737C84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9BB6-C33F-4BBD-9C76-7F50D7DD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EE1C-0444-487F-8348-C9B92153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CB38-DE8C-4ECF-AEDB-BEA7D436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88A1-A56F-4569-B615-42AD9457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CEEB-3E17-400F-8A68-B57DFDC9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D418-7D9D-496D-AA80-DB4AD545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9258-9361-4D21-94DE-2319B685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AD705-1FF8-4631-B9C2-A4190B767F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