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566629"/>
        <c:axId val="19983190"/>
      </c:barChart>
      <c:catAx>
        <c:axId val="375666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983190"/>
        <c:crosses val="autoZero"/>
        <c:auto val="1"/>
        <c:lblAlgn val="ctr"/>
        <c:lblOffset val="100"/>
        <c:noMultiLvlLbl val="0"/>
      </c:catAx>
      <c:valAx>
        <c:axId val="199831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5666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02B4-6E70-4140-8EEA-B4F22FCE2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B05B-0ED6-4CCC-986F-EAE0C3F5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5464-903D-403B-A63B-7FD6DEA4E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6068-E0BB-4781-ACE9-D1A906FC2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426D-F0C2-4BB7-AE75-D9819469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73C4-1496-4009-B6F9-E43EBD8D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A7FD-B306-4448-92D3-F42BE4AA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AC58-6A32-420F-8EA6-9ED36EF0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B78D-D1DE-4613-8FC0-E3DF69F1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B1FB-91BE-4BA4-BD9B-09780647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D6D6-0B44-457E-B80D-AA2212CB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7533-C406-4C22-8A20-974C17C8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A44F8-460B-4934-87A3-126A1D5690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