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904077"/>
        <c:axId val="50379810"/>
      </c:barChart>
      <c:catAx>
        <c:axId val="559040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79810"/>
        <c:crosses val="autoZero"/>
        <c:auto val="1"/>
        <c:lblAlgn val="ctr"/>
        <c:lblOffset val="100"/>
        <c:noMultiLvlLbl val="0"/>
      </c:catAx>
      <c:valAx>
        <c:axId val="503798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040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DB32-FF2E-43D3-951C-AFC9F49D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E7BA-AE47-4EA9-B4CB-081635C5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45FE-FE9B-4189-BD5A-006CBB6C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0054-1977-4E35-A83A-8CD58923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5C4C-5DC6-4D04-8675-4821B098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955B-52FB-41F6-A7D7-4CF295B1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AD71-2F80-4B37-9941-1E0FF2B4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7FFB-277F-40D8-BA43-86120C17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F198-C5BB-441E-BA41-DBD0E58C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3A29-7CA1-44BF-9D51-895AFB6D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1BDC-04F0-4FF9-8749-7DE8C78E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2A4C-F40A-4406-929F-30F03932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79AE4-24C7-44AD-9CBC-39E6F37166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