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35324"/>
        <c:axId val="89718132"/>
      </c:barChart>
      <c:catAx>
        <c:axId val="22735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18132"/>
        <c:crosses val="autoZero"/>
        <c:auto val="1"/>
        <c:lblAlgn val="ctr"/>
        <c:lblOffset val="100"/>
        <c:noMultiLvlLbl val="0"/>
      </c:catAx>
      <c:valAx>
        <c:axId val="89718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35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4D6-7555-4846-966C-81447F38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5A3-4559-46AC-8F41-150C62B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86D-5BC1-44A4-9C63-C1552FE7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9A4-6A34-4CE7-97E8-930B2A97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BDF-BFFF-4593-8C1E-150E935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8A7-0D21-47F2-8901-768E581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713-F9E2-4C18-B135-17D11692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F96-F0FE-47CB-9356-10E61EF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0EC-24E8-48A6-A7C9-C9A8C798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E25-FEEA-41B9-9E91-B6C8C801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6DB-3713-4279-A534-3957AA5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340-0E23-463F-9FCF-0ACF7AB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A49DC-84BE-415F-A6A5-B4E7C1510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