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13095"/>
        <c:axId val="81240030"/>
      </c:barChart>
      <c:catAx>
        <c:axId val="86413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0030"/>
        <c:crosses val="autoZero"/>
        <c:auto val="1"/>
        <c:lblAlgn val="ctr"/>
        <c:lblOffset val="100"/>
        <c:noMultiLvlLbl val="0"/>
      </c:catAx>
      <c:valAx>
        <c:axId val="81240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13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F2A-384D-40B6-B4B8-39AD9EC1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2B3-2DF2-49D3-85BF-ED6C5B4F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A71-3F5E-47DB-96C3-715B634A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6E5-9BFD-4DDF-950A-03F6EB54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CB7-0C87-449C-B35B-624C9E5B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092-164B-4A81-A492-36ABE17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91E-4A43-42B4-8CF2-EF625911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4A2-3854-4EBF-B0ED-3AB28C1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B22-4F68-4949-B235-6B399CD7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AF0-7361-43A6-A9DA-5EF85B4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638-3179-42FE-94ED-FB33E4C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59D-66C0-498D-872A-80BA855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F2516-C72A-4D04-804F-6259AC72EA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