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51786"/>
        <c:axId val="36882869"/>
      </c:barChart>
      <c:catAx>
        <c:axId val="12451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82869"/>
        <c:crosses val="autoZero"/>
        <c:auto val="1"/>
        <c:lblAlgn val="ctr"/>
        <c:lblOffset val="100"/>
        <c:noMultiLvlLbl val="0"/>
      </c:catAx>
      <c:valAx>
        <c:axId val="36882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1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F82-E1C5-4576-822E-5D221272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E1F-F4B1-42E8-A8AC-46882D1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94B-E5B2-4549-8032-DB21FF30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060-E9DB-4237-BF14-88755889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41D-3CC0-4982-95A7-5CD9827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8E1-8EEB-498C-AF72-AF361E69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CBF-960A-4ED4-99CF-B7BA447F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990-17B3-498D-A0AC-E28B3C7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593-5FFB-4352-875A-29CC2276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692-6795-4CB5-8CC0-FCD28E8C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671-370C-4302-B65C-C8660FC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706-FB3A-4E5E-953D-CCB3AA9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E0220-5429-4454-B40E-CA128B6C64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