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51626"/>
        <c:axId val="60648716"/>
      </c:barChart>
      <c:catAx>
        <c:axId val="80451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48716"/>
        <c:crosses val="autoZero"/>
        <c:auto val="1"/>
        <c:lblAlgn val="ctr"/>
        <c:lblOffset val="100"/>
        <c:noMultiLvlLbl val="0"/>
      </c:catAx>
      <c:valAx>
        <c:axId val="60648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51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D64-03A2-4ED4-8884-AFD7C48B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B1D-1276-48A5-AEF2-0F2EED21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0D8-34D7-4470-8C33-0A807187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628-9F54-4EDC-A1D4-6498DB73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515-3BC5-4C7E-8DE7-A608CEEF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FFA-FA7D-4C32-97F9-6716C27D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891-72AE-4367-81E6-F6420E97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752-880D-4D26-8A2F-5FDCB5E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C89-6740-4A0F-9F3C-39D83F1A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56D-9439-418D-B6EC-B29226E3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1A7-3608-42D9-9284-95E9D117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4B2-2A81-48EB-BB32-29B73B3E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04E28-872D-4588-95BF-D618FA84A6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