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69148"/>
        <c:axId val="68531162"/>
      </c:barChart>
      <c:catAx>
        <c:axId val="19069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1162"/>
        <c:crosses val="autoZero"/>
        <c:auto val="1"/>
        <c:lblAlgn val="ctr"/>
        <c:lblOffset val="100"/>
        <c:noMultiLvlLbl val="0"/>
      </c:catAx>
      <c:valAx>
        <c:axId val="68531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69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EC1-E38F-4DF3-85CB-88683C79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D6F-54CB-439A-AEDF-9C1F4B9B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A88-E814-429E-9D62-D9856431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4E9-0D97-4AFB-86C6-A3813155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424-E8FB-41D5-AC06-B716F98D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C6F-7CF5-4945-BC75-372AE7C8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501-1D4A-47F7-A9E3-F0BDED78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28E-4EB1-4017-8874-D86B425E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786-68FF-4625-8E5A-DC45D451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564-399B-4004-83FC-1CB1F69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ED9-8A13-4D3C-9AB4-340D515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B50-6F4C-4650-A388-B591053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E2A5F-C331-490D-8163-D73E1A579E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