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79416"/>
        <c:axId val="33409380"/>
      </c:barChart>
      <c:catAx>
        <c:axId val="76579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409380"/>
        <c:crosses val="autoZero"/>
        <c:auto val="1"/>
        <c:lblAlgn val="ctr"/>
        <c:lblOffset val="100"/>
        <c:noMultiLvlLbl val="0"/>
      </c:catAx>
      <c:valAx>
        <c:axId val="334093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9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6AB-3787-4C55-B374-C90208F0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8CC7-4929-44E6-A051-56321752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F8DF-C505-429D-B421-780EFB63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85D-4A27-4195-AB54-CCA963D7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790-3299-45C7-B57B-A6F6E94E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8387-B4F2-497E-921C-4520E20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00C-7F9B-4085-9C71-7B554819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69BC-9D57-4B61-8096-DC3113BA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D00-084A-4B3A-9164-1434529A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FA3-80D6-4BAD-AA0B-00888FA52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E50-3CD8-4EA5-970B-164A0B55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5723-0477-4D06-8BCF-82DA6735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21339-EC2B-42C0-AB92-781B02A73C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