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24809"/>
        <c:axId val="66588081"/>
      </c:barChart>
      <c:catAx>
        <c:axId val="98724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88081"/>
        <c:crosses val="autoZero"/>
        <c:auto val="1"/>
        <c:lblAlgn val="ctr"/>
        <c:lblOffset val="100"/>
        <c:noMultiLvlLbl val="0"/>
      </c:catAx>
      <c:valAx>
        <c:axId val="66588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24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AC6-8063-4506-AF06-0FF26074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D1F-2701-4DA6-9DAB-F67C30CF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D3F-1A1F-430B-A98C-3C005B0E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1B6-51B1-4534-B1F2-CB57EA35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FA9-814C-4AD8-9380-D2AF8856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412-1EAF-4B32-BF7C-ED99B33C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51B-B7CA-45CD-8868-51C8A0F6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51D-5A87-468B-B3A8-749A4DAB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DB5-E5D8-4640-863D-D75F313F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8ED-F82E-4AD7-BDA7-51C4438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ACD-8930-41CE-8D25-EF2957D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824-CB53-4644-BAF5-00C91AF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B79E2-036E-4795-8298-006666C4C3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