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07526"/>
        <c:axId val="29492981"/>
      </c:barChart>
      <c:catAx>
        <c:axId val="1270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2981"/>
        <c:crosses val="autoZero"/>
        <c:auto val="1"/>
        <c:lblAlgn val="ctr"/>
        <c:lblOffset val="100"/>
        <c:noMultiLvlLbl val="0"/>
      </c:catAx>
      <c:valAx>
        <c:axId val="29492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0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E9D-1F81-4080-97A3-DBCF8A11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3E7-BA35-4B0C-98B4-0F62BB8D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5C0-03B2-4367-BCF2-13D87793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C29-3EAC-4FD4-A673-78ED5BCF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398-4858-468C-BD27-DE5CA3B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0BF-D216-49A7-AE43-9327624A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4B7-ACBA-4572-A289-DA13043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A41-9EC7-4248-A9B7-5099263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95D-8FDC-470F-A2DE-1877251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E84-A891-4EF4-8D34-3DB3384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E4B-C239-4DBF-B4AE-C00F3757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EED-E650-42EA-A3D4-C079F15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75249-3C10-47AC-A80C-80B7411D7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