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46347"/>
        <c:axId val="83429741"/>
      </c:barChart>
      <c:catAx>
        <c:axId val="82846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29741"/>
        <c:crosses val="autoZero"/>
        <c:auto val="1"/>
        <c:lblAlgn val="ctr"/>
        <c:lblOffset val="100"/>
        <c:noMultiLvlLbl val="0"/>
      </c:catAx>
      <c:valAx>
        <c:axId val="83429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6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C91-3CBA-4962-933A-65479AF6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F67-5DAE-46C8-A3AC-26F7BBD8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BA5-D2C3-4247-93FE-5B8F3E5B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9BF-0B03-4B87-B090-B244A01F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24A-BD0D-4609-8B96-5729B238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4E9-B51A-4946-BC7B-0C04E67C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C83-3706-4EFF-AF8C-6015B052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734-BB0D-4371-8535-EA4274F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DD3-CB77-41E1-8C3D-876F7884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081-49A2-4F01-ABED-B1EA4C9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AFB-124B-4451-938F-4073977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F1B-7FBD-40A1-AD01-AE43ACC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F1AC7-8308-4684-AC19-1279A49462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