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68241"/>
        <c:axId val="70141302"/>
      </c:barChart>
      <c:catAx>
        <c:axId val="46568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1302"/>
        <c:crosses val="autoZero"/>
        <c:auto val="1"/>
        <c:lblAlgn val="ctr"/>
        <c:lblOffset val="100"/>
        <c:noMultiLvlLbl val="0"/>
      </c:catAx>
      <c:valAx>
        <c:axId val="70141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68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635-8A29-41C2-98CD-0EB50857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CEE-CB0D-4DD6-941D-26A7E29E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DEE-0FE2-4CE7-B632-440BBCBE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DCC-AD39-4833-A2DB-12DC7F55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323-52CB-48C6-BBE4-85DB2EA4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E00-A1A6-46BF-B941-41477C28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3C1-F05B-4152-8368-F5D24CC8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349-44A3-4B9A-A3E9-354D70FE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270-B9DF-42D3-B661-EEED36BA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359-EF2E-4300-9004-6DCF832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7FD-0056-46C9-B8B0-D5B3933F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021-5C0C-4415-A9EA-6849C513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790AD-8D87-4BC8-BD21-C1AAA5FCE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