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48064"/>
        <c:axId val="63758384"/>
      </c:barChart>
      <c:catAx>
        <c:axId val="88648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58384"/>
        <c:crosses val="autoZero"/>
        <c:auto val="1"/>
        <c:lblAlgn val="ctr"/>
        <c:lblOffset val="100"/>
        <c:noMultiLvlLbl val="0"/>
      </c:catAx>
      <c:valAx>
        <c:axId val="63758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48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07D-D748-4283-A236-E19D5A2A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94E-F46A-48D1-9DC7-DFC36B3A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E45-FC63-4AF1-B664-F2026523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9AC-58E2-4C20-9001-EBA58826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0A7-B344-4F11-8CB0-F0DAC77F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C33-A2F9-41CC-BA50-64F0B5F3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7BD-FB52-4202-8B79-D8F3929A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AF9-3B7E-4AC1-8191-7B2C25DF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5B8-BE7F-4799-9FB9-2BFCCB54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908-3E3E-40E3-A661-E0A0547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41C-9149-436E-A3C8-D3E66CC4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9C8-F3D8-4334-B7B1-5A688081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D6042-8414-481E-8182-D014E94945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