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15726"/>
        <c:axId val="18828266"/>
      </c:barChart>
      <c:catAx>
        <c:axId val="19515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28266"/>
        <c:crosses val="autoZero"/>
        <c:auto val="1"/>
        <c:lblAlgn val="ctr"/>
        <c:lblOffset val="100"/>
        <c:noMultiLvlLbl val="0"/>
      </c:catAx>
      <c:valAx>
        <c:axId val="18828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15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F9C-5E61-4EE3-8D9D-5B17EF67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9ED-4BC5-4823-9F2A-8492A8A4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D90-0F77-4519-91FA-D7D74C12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039-AAF1-467C-B9E2-C18DC5F5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4E9-9E7C-4C9B-B29F-D056E598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BA5-06A1-45A3-85DC-ECE96FA4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776-F697-4DEA-9096-27584B95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BEE-ACF9-4EB4-98B5-616C9064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6C5-8180-4A8A-BCC4-43C84150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F76-1981-4C27-9A31-FCE7605C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CEC-4C0A-4745-B1B5-CD25570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1DE-E5D4-44E5-AE47-A8AEDADD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60EC-3B59-4DFB-B563-49A1D3E192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