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77228"/>
        <c:axId val="12659692"/>
      </c:barChart>
      <c:catAx>
        <c:axId val="91177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59692"/>
        <c:crosses val="autoZero"/>
        <c:auto val="1"/>
        <c:lblAlgn val="ctr"/>
        <c:lblOffset val="100"/>
        <c:noMultiLvlLbl val="0"/>
      </c:catAx>
      <c:valAx>
        <c:axId val="12659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77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6A8-38A8-4189-B32A-2CB01D7E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841-F937-4D6B-A7A6-F9956B64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217-DA9F-4D21-927B-EA75FEA3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8AB-3FE4-4D02-9CE8-FCC10062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0A2-88D1-4832-B73E-BEDD6D40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051-185F-4C8B-85E5-C9E50B90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452-AD88-466D-BCEB-8642D404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138-3487-4EAD-A6C1-1DABBE10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B36-0C16-44CB-A5BB-8E03B92B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65A-05E9-4B6F-B180-C22E953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AAF-19F4-4FAE-AF59-06AAFA4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38E-D44E-416A-898B-E040374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B4089-3CFE-4F5A-99A4-74B50203BD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