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12228"/>
        <c:axId val="40875154"/>
      </c:barChart>
      <c:catAx>
        <c:axId val="76412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75154"/>
        <c:crosses val="autoZero"/>
        <c:auto val="1"/>
        <c:lblAlgn val="ctr"/>
        <c:lblOffset val="100"/>
        <c:noMultiLvlLbl val="0"/>
      </c:catAx>
      <c:valAx>
        <c:axId val="40875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12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AF6-6EC2-4B58-9771-33B4725C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4F4-A4E9-4F10-9CFC-060AC244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5EA-2967-4D6A-ADF2-B6177E99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106-4CA3-4772-82C1-F02A0B4F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C6C-00F7-4903-BA83-F11572D9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094-827F-464B-84C7-98900DD4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2E3-2976-42C5-887A-0C2B1F27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646-73FE-4D46-B22F-DF4127AC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2EF-1641-42D0-91F3-3869CDCB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D9F-FC36-4DC7-9B2D-5A1058E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393-86B4-4851-8D83-7B3F4DD7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E8F-C26E-4B8C-A3F7-382C93F5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E9419-ABA2-4D97-A2C6-464DB90543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