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14578"/>
        <c:axId val="31828501"/>
      </c:barChart>
      <c:catAx>
        <c:axId val="16414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28501"/>
        <c:crosses val="autoZero"/>
        <c:auto val="1"/>
        <c:lblAlgn val="ctr"/>
        <c:lblOffset val="100"/>
        <c:noMultiLvlLbl val="0"/>
      </c:catAx>
      <c:valAx>
        <c:axId val="31828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4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CE3-6D4E-4275-8565-0C7461B5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EFA-578F-4F92-B661-1A562AF2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9E6-58C1-4AE8-A73C-18B0A49B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9B8-B8E2-46D5-A492-0719BB22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A10-1A52-4B2E-8F45-5824C72D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BE9-C213-4B5E-A008-2ED7DFD3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842-1C76-4436-B30C-06E45A11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A3E-EB5B-464A-AAB3-C93DA5B5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610-05B5-4156-8498-A1726BE6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6CC-E622-4D40-BDCD-90E6566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C53-B308-454D-91FB-5CF59A93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FDA-E8EE-451D-B680-DA8E3BA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C38E5-49B4-410C-8B38-E6E35CD1C8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