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807596"/>
        <c:axId val="24114117"/>
      </c:barChart>
      <c:catAx>
        <c:axId val="648075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114117"/>
        <c:crosses val="autoZero"/>
        <c:auto val="1"/>
        <c:lblAlgn val="ctr"/>
        <c:lblOffset val="100"/>
        <c:noMultiLvlLbl val="0"/>
      </c:catAx>
      <c:valAx>
        <c:axId val="241141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8075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264A-A3A6-44BC-B7EA-2557DCA15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C7BB-41B0-43C4-A786-026036A01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E8AC-CD1E-45D0-BC09-0F102D4C5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F463-98D3-442B-811A-7ADB04BEF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3C19-5B70-4095-B8DA-39D40A8DF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649E-8907-42C5-AEDF-6CE051450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2D06-8314-429A-B0DC-3674E589A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2366-18FE-4681-A08A-4C655F278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AB4E-F436-4537-A139-8F7065120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1CED-62DA-4270-A819-1B9FCA9B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5C9D-E91F-49F2-9D65-E89087C7D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CBB3-E099-47AB-8A1B-D9609D09D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5A23A4-9670-48A2-82CA-F97812D3802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