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98003"/>
        <c:axId val="74242094"/>
      </c:barChart>
      <c:catAx>
        <c:axId val="65198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2094"/>
        <c:crosses val="autoZero"/>
        <c:auto val="1"/>
        <c:lblAlgn val="ctr"/>
        <c:lblOffset val="100"/>
        <c:noMultiLvlLbl val="0"/>
      </c:catAx>
      <c:valAx>
        <c:axId val="74242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8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302-E8FD-4FFA-ADA4-8A54A753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917-9CF7-46FF-9154-74204209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966-0C1D-43CF-8A93-365546AB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E60-1A76-497D-B5E2-5196EF57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DEC-53C4-48F2-A20E-66594DD4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70D-6E2F-4970-9AE0-CC33C202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29C-8005-4B2E-A63F-3F58ADD1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B1C-0806-4A42-86D5-AD84A396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8D7-D9DF-491E-917D-8A0F4A4E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482-BFC5-4C71-BA35-8FD15EF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2DF-8ED8-4653-AD19-6C107D86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B80-AB26-4D25-A66E-9163ECEF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A1EFF-71C2-4E00-B288-8677B3748A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