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34275"/>
        <c:axId val="49184671"/>
      </c:barChart>
      <c:catAx>
        <c:axId val="98534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84671"/>
        <c:crosses val="autoZero"/>
        <c:auto val="1"/>
        <c:lblAlgn val="ctr"/>
        <c:lblOffset val="100"/>
        <c:noMultiLvlLbl val="0"/>
      </c:catAx>
      <c:valAx>
        <c:axId val="49184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34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3FA-8855-4A6D-BC16-9382683A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BF4-BC29-48ED-B619-31571445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4B9-ACF6-436E-8306-E79B374F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01F-8EBB-41CB-973F-EE04E59A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B02-DA76-44C6-9FC7-97D8CB60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FFDD-67C1-4EF2-9E6F-AC592F13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B03-EB4C-4056-A201-F10A277E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AA6-10FE-4B7B-82FE-6F3F8CE9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543-67AE-4002-9D0D-0A421AF9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239-4758-4BF6-AC6F-A268256D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E50-B8E5-45E9-952F-127C7B88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96F-3CF9-4A22-A31E-84DDEE9A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8A1D5-9456-4284-8554-38F8AB0A00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