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96466"/>
        <c:axId val="751680"/>
      </c:barChart>
      <c:catAx>
        <c:axId val="65196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680"/>
        <c:crosses val="autoZero"/>
        <c:auto val="1"/>
        <c:lblAlgn val="ctr"/>
        <c:lblOffset val="100"/>
        <c:noMultiLvlLbl val="0"/>
      </c:catAx>
      <c:valAx>
        <c:axId val="751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96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B02-EC09-4149-BC7E-50ADA2C7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1B7-C0E2-42ED-AC96-DA9EC513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581-0945-4429-8BBC-970A9226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1D4-B3FB-4BD2-880A-D6471AAF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242-A55A-4CF5-8F21-3D5B9180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559-6D91-4DD0-A55C-A9E8910A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7C7-0543-4007-9C1A-DE92D255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122-F670-48AD-8425-B2609A0A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3DF-2463-4FB7-A682-8B0E6795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806-A4B0-4C4A-BC4E-2A852CEA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1DA-E4AB-4973-8BDC-4103DE1E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11F-57AC-4432-9845-0678AF41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98D52-79E8-4374-B82B-CD49ADF1F3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