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993995"/>
        <c:axId val="67593731"/>
      </c:barChart>
      <c:catAx>
        <c:axId val="769939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93731"/>
        <c:crosses val="autoZero"/>
        <c:auto val="1"/>
        <c:lblAlgn val="ctr"/>
        <c:lblOffset val="100"/>
        <c:noMultiLvlLbl val="0"/>
      </c:catAx>
      <c:valAx>
        <c:axId val="675937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939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70EC-DDCE-4EC2-B1C8-ABA7A897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EA03-38EA-4FB3-99D8-DDF726AD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95D7-40B2-4C64-8D30-C6989E9E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D62B-4F24-41C4-A869-7FCB5582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C698-D254-4077-9EB2-F0F6CF31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0483-B0ED-4ECB-960F-12BB2672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5248-A21E-444D-8BC2-CBBE9F62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A130-9A76-44BF-A8AC-7E727852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A9D2-87E6-4C28-86E8-3E21C875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7EFB-8ECC-447E-9849-15970563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0315-4C02-4359-909E-DC716257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3614-8737-4F51-ACF0-91A9A4AB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5DE7B-9419-4A3A-A9F1-93CAC8B5D6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