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13377"/>
        <c:axId val="74047020"/>
      </c:barChart>
      <c:catAx>
        <c:axId val="29613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47020"/>
        <c:crosses val="autoZero"/>
        <c:auto val="1"/>
        <c:lblAlgn val="ctr"/>
        <c:lblOffset val="100"/>
        <c:noMultiLvlLbl val="0"/>
      </c:catAx>
      <c:valAx>
        <c:axId val="74047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13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CE3-B4D5-4B65-8C47-C9825F74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ABA-36ED-4FC0-8B54-59117288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1CE-E0B3-4058-8EDB-8CE0284E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1BA-A4F6-4C45-926E-19AFD40A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D84-7C0F-43CE-9001-4C37D035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5C3-8FE3-4A50-B3A8-4763C7E4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1B6-AD1B-4055-B9C2-7E285294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DCA-AE93-4925-A6E5-F765EA1C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93E-19C9-43A1-A8F4-663A2BD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0A8-4F6E-4EB2-A819-3175E5AE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8FC-80E8-431D-8B24-60138B7B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326-B909-4D0C-AADF-7F4CF93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9D33B-057C-4B63-B4B0-7667163C85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