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18987"/>
        <c:axId val="1122623"/>
      </c:barChart>
      <c:catAx>
        <c:axId val="35418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623"/>
        <c:crosses val="autoZero"/>
        <c:auto val="1"/>
        <c:lblAlgn val="ctr"/>
        <c:lblOffset val="100"/>
        <c:noMultiLvlLbl val="0"/>
      </c:catAx>
      <c:valAx>
        <c:axId val="1122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8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608-EEEC-4F1C-9CBF-84573FEC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C70-1696-4D23-AAE8-2B80FF5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867-834F-451C-9826-FDBBFE19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31A-F780-457E-9F94-F5391B55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FBD-8503-404F-B46E-D3E804A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465-FC81-4A4E-B83F-B3E33A20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BD3-4BA0-4BD9-8748-86C42EF9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D81-D98F-4C39-9F89-5C193A5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637-6988-4988-BD73-515DC12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F5B-4904-42F8-A194-4FE687C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99A-C3E4-4750-8F3B-9F9643E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F20-716A-48FA-A1CD-BBE1485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4B3C-2E6C-4574-8061-D163155A6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