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310551"/>
        <c:axId val="17442768"/>
      </c:barChart>
      <c:catAx>
        <c:axId val="143105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42768"/>
        <c:crosses val="autoZero"/>
        <c:auto val="1"/>
        <c:lblAlgn val="ctr"/>
        <c:lblOffset val="100"/>
        <c:noMultiLvlLbl val="0"/>
      </c:catAx>
      <c:valAx>
        <c:axId val="174427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3105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5FC2-3B87-4DE7-B9EF-8633F83D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AA1A-F998-426B-B945-F6041CC5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33E5-0E07-476E-A7B7-C938904B7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C018-2E26-40AC-B8C9-7ECB9040D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EC4E-4044-40CB-9CD3-DEEEEF82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D5A1-A377-4DE2-9389-A480A6DF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C445-708F-40BD-9BCA-9422DDFE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4A20-FC76-48A3-B957-EA0F226D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C8ED-C004-416E-8F1E-BF31D604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DD48-832D-429F-AD7F-B96C2F47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5457-D5D7-414B-B3DD-2DCC4497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B8A4-6806-42D9-8E60-C1959CF6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F0DBA6-582D-4523-A762-16E00AAAFA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