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49508"/>
        <c:axId val="54337343"/>
      </c:barChart>
      <c:catAx>
        <c:axId val="35549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37343"/>
        <c:crosses val="autoZero"/>
        <c:auto val="1"/>
        <c:lblAlgn val="ctr"/>
        <c:lblOffset val="100"/>
        <c:noMultiLvlLbl val="0"/>
      </c:catAx>
      <c:valAx>
        <c:axId val="54337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49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201-8A7D-45B9-AFA7-F9ACB57A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36E-CD3F-4E90-B8FF-B63D7060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338-9B81-43F1-AF48-241AC955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006-5FAB-4965-9DFD-47F9B055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329-3851-4161-8AC7-DC8896BF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563-A92B-4948-8B41-43ED11BC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168-8808-4944-BCCB-27CFFDA4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C14-1916-4CF0-ADB0-B84365B4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3FD-8F6F-4F24-BF5F-3FCF22B0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398-949D-44A1-9944-2322B4DE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CC9-4AF6-4DC5-ADDB-01EE8067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6CD-90A9-48CC-9B46-BF844F75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1B41E-3C16-42FB-9B5C-560654DF24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