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67110"/>
        <c:axId val="4055371"/>
      </c:barChart>
      <c:catAx>
        <c:axId val="51967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5371"/>
        <c:crosses val="autoZero"/>
        <c:auto val="1"/>
        <c:lblAlgn val="ctr"/>
        <c:lblOffset val="100"/>
        <c:noMultiLvlLbl val="0"/>
      </c:catAx>
      <c:valAx>
        <c:axId val="4055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67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3FE-F93C-4E1A-B24F-C2A997FB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4C7-F7ED-4941-9DB5-E9C93468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213-C456-44EC-9CC9-AB90AD81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209-6243-4C86-A19D-E1B1710B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A33-FC0D-4D40-A47E-E1D37C9D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89C-3F88-4052-849A-7F4A9322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72B-E8ED-4D23-91AE-A705B668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08B-07AE-4D71-8FC1-496D765A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DC3-E451-4A70-A58D-393C12CF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FEF-F404-43D5-B9E3-60BB365A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83A-8E4A-480F-B0EF-60657D4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EB2-7E06-4FC3-AEE3-9A62983B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47FD7-A791-4B6E-8E84-F0991D42A6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