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713834"/>
        <c:axId val="87230075"/>
      </c:barChart>
      <c:catAx>
        <c:axId val="897138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230075"/>
        <c:crosses val="autoZero"/>
        <c:auto val="1"/>
        <c:lblAlgn val="ctr"/>
        <c:lblOffset val="100"/>
        <c:noMultiLvlLbl val="0"/>
      </c:catAx>
      <c:valAx>
        <c:axId val="872300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7138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5239-6776-4824-9AD7-8D8C179A0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565A-815E-4BA8-9C75-B0368F210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B9F0-42EB-4065-B915-AD0CA3296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A90E-D11B-48C8-BDFE-B4B9DC507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18A8-EB4A-4FCB-BC68-5FE95CE58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39D2-E1B2-43CA-9DD4-F86BF3AF5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4674-B768-4EFA-B014-0109515DF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C62E-7D0B-4392-8F3A-920100468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7512-2809-4746-A1BB-78E0D0200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222F-30C9-4F8B-952E-EB038BA3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4911-9185-464A-88F2-0DAF9E9D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8A39-A1ED-4062-8A2C-00BA0C088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587AC8-7BF3-4FB2-8610-3175313A805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