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92892"/>
        <c:axId val="6305543"/>
      </c:barChart>
      <c:catAx>
        <c:axId val="54992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5543"/>
        <c:crosses val="autoZero"/>
        <c:auto val="1"/>
        <c:lblAlgn val="ctr"/>
        <c:lblOffset val="100"/>
        <c:noMultiLvlLbl val="0"/>
      </c:catAx>
      <c:valAx>
        <c:axId val="6305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92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7F72-8C33-46FB-A2FE-379CC947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DBE-D33F-415A-B29C-8D404280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02C-594B-4F50-BC64-ED58BCFB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CA2-203E-428B-B7B0-4B090E47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E05-4510-40C9-B2CC-9C35934D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509-3149-423C-8ECC-1BEBC925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343-B653-4C7A-9AA6-3C9E9684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EDA-4869-4A23-AD5C-BE7D9630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0C8-DC27-48E0-8F11-C4DC4A9C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A8D-D458-41B0-8E43-9ABB6160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8F3-07A7-4F33-80BB-EB2907E2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633-3AC7-4D3D-8206-95125DDE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2DEA3-C830-4CD1-8333-D08D848878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