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01674"/>
        <c:axId val="40932079"/>
      </c:barChart>
      <c:catAx>
        <c:axId val="94801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32079"/>
        <c:crosses val="autoZero"/>
        <c:auto val="1"/>
        <c:lblAlgn val="ctr"/>
        <c:lblOffset val="100"/>
        <c:noMultiLvlLbl val="0"/>
      </c:catAx>
      <c:valAx>
        <c:axId val="40932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1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CB9-013C-45F5-AA49-CABCEB18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E0E-3341-45BE-9F14-3EBE08C8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301-74FB-42E8-A6B4-B3AFC358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121-F40C-4F17-B06D-1EEDDCA4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60E-B324-4D78-8D6C-43D65E4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C49-2F91-48AB-849B-9D69AEB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C3F-B8CC-4621-B2C3-E985780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F91-D60D-41FA-A237-2DBC2669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38B-1767-43AB-9F22-22F85289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527-20D5-43EB-AB4C-0B564510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B7E-EABC-4682-98EC-DD4B140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D23-23D1-46C6-829C-C6F3D2F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EFBDC-9E3C-479A-9C2E-FDF45F687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