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94292"/>
        <c:axId val="74391693"/>
      </c:barChart>
      <c:catAx>
        <c:axId val="51494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91693"/>
        <c:crosses val="autoZero"/>
        <c:auto val="1"/>
        <c:lblAlgn val="ctr"/>
        <c:lblOffset val="100"/>
        <c:noMultiLvlLbl val="0"/>
      </c:catAx>
      <c:valAx>
        <c:axId val="74391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4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250-DD7A-431A-A6E1-5BF0E752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441-26D9-4E48-B3E4-A1E1FC35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776-6ABD-4C88-BA27-18861978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8EC-0021-401A-B1E0-4FC57950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F0B-A591-4D45-A81E-C869A3CF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991-07CC-4AE3-87F0-81B87707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7CD-E0C9-4366-9C37-4962FCD3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02F-FB85-4C70-BF14-B95BEB89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E3E-FB85-42D3-B746-C967A507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36F-A2BD-4407-9346-967D75E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469-4AAD-4240-9701-DB24C302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463-2740-4CAB-8BC2-67ACC9C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672AF-D926-41E6-B64C-6010E7502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