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19522"/>
        <c:axId val="47946444"/>
      </c:barChart>
      <c:catAx>
        <c:axId val="22195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946444"/>
        <c:crosses val="autoZero"/>
        <c:auto val="1"/>
        <c:lblAlgn val="ctr"/>
        <c:lblOffset val="100"/>
        <c:noMultiLvlLbl val="0"/>
      </c:catAx>
      <c:valAx>
        <c:axId val="479464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195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35F2-AF58-412D-86C8-0DF0BA2A1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C292-8F87-448C-9B59-B805C1DA3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08BA-051E-43A4-A11F-EF143F9C9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1A19-9940-4E8B-ACCB-D515FE25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CC5E-DBE0-40D6-B503-9E21E287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7248-0FBA-4A96-9E09-9F6BB95C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8CC2-25E1-4EC0-AC64-9CB93183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E3DE-C177-4D17-9B98-EF5290BA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83E3-EAE9-40D7-82C7-3BD87560A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A86-52DD-4CC7-BD35-F43A3909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A1194-8052-4ED8-8910-1AD32E8F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6AF0-0CB1-4C9F-B561-4A1157C7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0BD3D-DD2B-413D-A032-6701D9CA78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