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09019"/>
        <c:axId val="92074571"/>
      </c:barChart>
      <c:catAx>
        <c:axId val="29409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74571"/>
        <c:crosses val="autoZero"/>
        <c:auto val="1"/>
        <c:lblAlgn val="ctr"/>
        <c:lblOffset val="100"/>
        <c:noMultiLvlLbl val="0"/>
      </c:catAx>
      <c:valAx>
        <c:axId val="92074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9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C84-9221-43CC-86B9-CAA9EC3A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3DA-5355-4EFF-BCF5-EA1DD49B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ED0-8E3B-40B4-834B-50851C99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4DC-153F-4A7E-8C69-178A92F2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470-B37B-4507-A09E-ABB11BC2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D82-0B2E-45C3-84BC-DDBB845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4FF-D5B0-4184-87CD-7D1A7F6D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243-071A-4A68-803E-A216915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112-E8F9-4656-940B-79A240BB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BC7-FB17-44B8-9C4D-2E9EABFF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D84-6504-447C-84BB-A453A716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123-472B-4695-BC51-358F08DF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91DAB-4A41-4263-B64D-BEB7B6BFC4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