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97168"/>
        <c:axId val="73151541"/>
      </c:barChart>
      <c:catAx>
        <c:axId val="94297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1541"/>
        <c:crosses val="autoZero"/>
        <c:auto val="1"/>
        <c:lblAlgn val="ctr"/>
        <c:lblOffset val="100"/>
        <c:noMultiLvlLbl val="0"/>
      </c:catAx>
      <c:valAx>
        <c:axId val="73151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7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755-1665-4F9E-842B-AEFF3231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D3D-01FB-4052-9B12-93411A6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493-AE87-4C9F-8FA6-933D5D26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E61-E245-4C90-938B-C0EC9B1B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620-A6AD-4B5C-981D-A7E41522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A65-9DFA-42C0-9866-6F19CD72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365-5AE9-489F-92BB-CD7AB428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895-B2B5-4FAD-B3F6-4FBBEF1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75E-05C6-46D0-A73C-559781B7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6EC-81FA-4F9C-A17F-697C4A1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4D0-E5F7-485D-8DFC-74893EA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59F-3192-491E-8891-792E79D6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46B43-A66B-49CF-A373-DDC83A60F1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