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66107"/>
        <c:axId val="37903200"/>
      </c:barChart>
      <c:catAx>
        <c:axId val="31166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03200"/>
        <c:crosses val="autoZero"/>
        <c:auto val="1"/>
        <c:lblAlgn val="ctr"/>
        <c:lblOffset val="100"/>
        <c:noMultiLvlLbl val="0"/>
      </c:catAx>
      <c:valAx>
        <c:axId val="37903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66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E10-7659-4656-AAFE-DD3A20E3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59C-A056-4F24-A4F7-649A379E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EF5-5E7E-4A6B-BE26-13273224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0DC-9E6B-44FD-9666-394AD743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527-28D4-421A-858D-E10F5676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9FC-AD85-4C91-B54D-12A9C431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9944-1E8B-4422-BE81-2EA41731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19F3-0F57-443A-AFB4-D63A7377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2CA-6233-4922-ACB9-65DE4063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8004-328A-4C3C-B836-80B353AA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22A-FBF6-496D-8D76-A3C7BE2A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EB5-ED78-4104-8544-9313D91A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2F0E6-A68C-4743-86C7-3CB07F1704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