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9454"/>
        <c:axId val="6731039"/>
      </c:barChart>
      <c:catAx>
        <c:axId val="93119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1039"/>
        <c:crosses val="autoZero"/>
        <c:auto val="1"/>
        <c:lblAlgn val="ctr"/>
        <c:lblOffset val="100"/>
        <c:noMultiLvlLbl val="0"/>
      </c:catAx>
      <c:valAx>
        <c:axId val="6731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9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6C7-3D9D-406A-904F-620D2616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A9D-C158-454A-A3F6-93337DF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3A5-43A9-43F5-B1D4-4AD03D68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1A9-27BA-4210-9726-AECD37EB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9F8-C3F1-451C-A11F-2D367843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BC2-ADAF-47F0-86CA-6420E9E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B8D-7139-4A34-A2B7-96298E8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9BC-B9FD-4A6E-80E6-7C7341AF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B32-BFBE-47D1-826D-ACADFAF6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EC8-C9F0-469F-A62A-957499E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B2A-02A1-43F8-A3F5-9C44AE8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B62-D780-4403-9473-7DD544A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63048-E300-431E-B4A7-843A4AE0E4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