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65299"/>
        <c:axId val="84125729"/>
      </c:barChart>
      <c:catAx>
        <c:axId val="21765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25729"/>
        <c:crosses val="autoZero"/>
        <c:auto val="1"/>
        <c:lblAlgn val="ctr"/>
        <c:lblOffset val="100"/>
        <c:noMultiLvlLbl val="0"/>
      </c:catAx>
      <c:valAx>
        <c:axId val="84125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65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00E-4976-4695-A73B-775DD1A6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DF1-BBE1-472D-9D09-7D3552D4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BC9-1595-4E0A-A314-3495F091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499-1998-4407-B3A8-40BA8AA7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536-4461-407D-9301-1A754249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6B0-C15C-40C3-BB37-6F531B05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7E7-BF25-4336-8344-41D7F852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B227-9B2E-422F-86AB-644E7649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03D-64EB-49B7-937E-D55A3268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6D6-EC9C-47A7-B628-D647CB91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9976-5B6C-4516-BC39-4562E82E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7E6-DBDD-4741-A474-9285FC66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6742A-2EAF-4E90-AB95-3E94E92EF0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