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25894"/>
        <c:axId val="72013316"/>
      </c:barChart>
      <c:catAx>
        <c:axId val="32425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13316"/>
        <c:crosses val="autoZero"/>
        <c:auto val="1"/>
        <c:lblAlgn val="ctr"/>
        <c:lblOffset val="100"/>
        <c:noMultiLvlLbl val="0"/>
      </c:catAx>
      <c:valAx>
        <c:axId val="72013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25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FC0-6208-498F-A6E3-798B653F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C97-78EB-41B1-B97B-F2389E81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BAC-4049-49CB-B5B7-D97626C6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37E-288C-4503-BF99-494B75FD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9AD-6361-40F7-BB25-85CA8327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AF2-EE46-442D-A8BB-B17D6A1D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F07-6678-4805-A7BE-D54014CB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46A-433C-46BB-B14A-F6A76FBD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0B4-B804-43AE-A549-14B73ED6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556-536B-4848-91A1-41D484CC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A4A-7D23-4114-99DC-13E9E7C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70A-A67F-4B7C-8741-3501419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1C0AC-E218-470E-8FE2-082CBB5BE1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