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08824"/>
        <c:axId val="76883512"/>
      </c:barChart>
      <c:catAx>
        <c:axId val="33408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83512"/>
        <c:crosses val="autoZero"/>
        <c:auto val="1"/>
        <c:lblAlgn val="ctr"/>
        <c:lblOffset val="100"/>
        <c:noMultiLvlLbl val="0"/>
      </c:catAx>
      <c:valAx>
        <c:axId val="76883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8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69A-4E0C-4703-8CB6-BBA0CDA7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4C1-BB05-41DD-9F73-04AB5AC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E95-A5F3-42BA-81D4-C45138C2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47E-092F-42AB-995B-481144F4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762-F5C2-4DEE-997C-6D72FB43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435-BD17-45C8-B2B8-15D2E2D1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1E2-1637-4F1D-A034-E50E12C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98E-B8DB-4FB0-BE46-B9AFB61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F71-2ABC-4DA8-9B6C-DBC9CBE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505-1C45-43F7-8478-EFDA492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2C3-84CC-4937-BAC4-7174C14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9F8-1029-475E-9811-F658DC3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24F87-9C56-4256-8D03-9F2BFF66F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