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8408"/>
        <c:axId val="97877571"/>
      </c:barChart>
      <c:catAx>
        <c:axId val="7068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77571"/>
        <c:crosses val="autoZero"/>
        <c:auto val="1"/>
        <c:lblAlgn val="ctr"/>
        <c:lblOffset val="100"/>
        <c:noMultiLvlLbl val="0"/>
      </c:catAx>
      <c:valAx>
        <c:axId val="97877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8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3EF-13BB-402C-A00A-89EE001A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44D-C53F-44C4-803A-2956DE7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8E1-8FAC-41FE-9992-E5DA3959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A47-777F-4197-8F8C-23EEDEDF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E37-F148-4717-ABCB-E5C5BF0A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591-CF76-4251-AAC4-3CABF486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0C6-5EF1-4F8B-AAD7-9C3D16C0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22E-F018-4DF9-AE5D-181FAC69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144-B197-44D3-B1F9-0BF65E76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24A-9FF9-4D8E-944A-353FE8D2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EFF-E6F7-43DC-8ACB-BBABD6C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A18-824B-4EF6-87F3-533792B3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74CFC-6DC0-481E-83F5-E76BD37A3E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