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28749"/>
        <c:axId val="3083209"/>
      </c:barChart>
      <c:catAx>
        <c:axId val="55428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3209"/>
        <c:crosses val="autoZero"/>
        <c:auto val="1"/>
        <c:lblAlgn val="ctr"/>
        <c:lblOffset val="100"/>
        <c:noMultiLvlLbl val="0"/>
      </c:catAx>
      <c:valAx>
        <c:axId val="3083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28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7D7-EA01-44A7-AEA3-4A9B2E2F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FF5-52EA-4D57-A73B-D9F8B965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945-AE6B-4DE8-9CAA-6C9283BD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9BF-5239-4F92-B4BD-877DB6ED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EC0-3B19-4853-8C91-7634929F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7F0-5863-425D-A913-26B172B7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683-E97F-4686-903B-1B2D58B1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C1C-2F33-4996-B1B3-95968716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F83-6B0F-4CA5-A30D-6FBE9F54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9F4-DEC1-44B3-998D-C612D9C8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8FE-5D37-4FB6-B875-566C84FF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67C-F49B-4E2A-AE3B-84163503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90F0C-9762-4727-BD13-6B490184D3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