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07812"/>
        <c:axId val="46865079"/>
      </c:barChart>
      <c:catAx>
        <c:axId val="65707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65079"/>
        <c:crosses val="autoZero"/>
        <c:auto val="1"/>
        <c:lblAlgn val="ctr"/>
        <c:lblOffset val="100"/>
        <c:noMultiLvlLbl val="0"/>
      </c:catAx>
      <c:valAx>
        <c:axId val="46865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07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572-2639-4E45-B9BC-EECC48B9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967-B528-4D9F-98CD-D4F525D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D19-2AE6-4C5E-A3F4-E24F7E3D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664-0EB7-4810-A598-3CBCDFFD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B4B-0B17-4202-8133-55A4FF3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B69-BEF6-4303-8628-A9070DF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82C-6BB1-4224-8484-A5A06D68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FF4-1DC8-4C73-B92C-5F85E486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55E-42DA-4E2C-853E-FB52579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75B-6FCF-45D1-A32D-C16B7D5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A63-BE9D-45F7-A134-9922BB65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610-5381-46ED-BD67-8B6708A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B3AC9-7505-4972-B1C0-CDC22913B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