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48513"/>
        <c:axId val="19464441"/>
      </c:barChart>
      <c:catAx>
        <c:axId val="3574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4441"/>
        <c:crosses val="autoZero"/>
        <c:auto val="1"/>
        <c:lblAlgn val="ctr"/>
        <c:lblOffset val="100"/>
        <c:noMultiLvlLbl val="0"/>
      </c:catAx>
      <c:valAx>
        <c:axId val="19464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4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292-89BE-43DF-9D32-49DFCA0A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EFF-51B7-4BBF-818E-6DD62BC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42E-4EF6-4497-B7BC-39417160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B1C-829B-400B-81CD-CE84661C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A39-3E42-41A2-9BE9-C0800260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3C1-71A7-4881-86A5-B1008EA6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928-8BE0-43FA-B751-CE745188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27D-D747-4674-BB53-C48D097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7DE-4F4C-47B5-A23A-78EC1982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903-3EEF-4BCE-9843-5D72337F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034-FE5D-4601-A1F1-EA636EDC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879-B372-4B76-9DF8-F79122F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4F848-34A1-46AB-B063-DB3743876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