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68152"/>
        <c:axId val="20369090"/>
      </c:barChart>
      <c:catAx>
        <c:axId val="41268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69090"/>
        <c:crosses val="autoZero"/>
        <c:auto val="1"/>
        <c:lblAlgn val="ctr"/>
        <c:lblOffset val="100"/>
        <c:noMultiLvlLbl val="0"/>
      </c:catAx>
      <c:valAx>
        <c:axId val="20369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68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7F7-A6FB-41CC-B332-C5623136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BA8-FB3E-4726-8E3B-F666766F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BBB-430F-4C97-B1CC-457EC84A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506-DB50-4D54-A9B5-28F186C5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8F4-F876-4A03-ACD9-7CFB202B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E1D-29C5-496C-9F79-F50DEB51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558-AC34-4BC0-B24B-CF1C3F31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53B-1F52-432C-928F-C62F736A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0ED-3880-459C-9BBA-574AB2DD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923-7EB3-4DF6-9142-2244541A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DC7-22C0-4D88-89EC-697FE7C5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EF5-B2C2-4BB0-994F-69242C3E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17F46-1050-473C-B0FB-0E0817DD89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