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52055"/>
        <c:axId val="21651977"/>
      </c:barChart>
      <c:catAx>
        <c:axId val="27452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51977"/>
        <c:crosses val="autoZero"/>
        <c:auto val="1"/>
        <c:lblAlgn val="ctr"/>
        <c:lblOffset val="100"/>
        <c:noMultiLvlLbl val="0"/>
      </c:catAx>
      <c:valAx>
        <c:axId val="21651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52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1C0-7F3C-48D2-9644-BE7875BF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064-9140-416B-9F0C-F9822CA4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812-C869-44D0-970D-B835CBB5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657-4311-405C-8943-A9B033B6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A5D-3C7E-446A-84FF-238AEB92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426-469E-4EDD-B1BE-6A6427DA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DAE-7DF6-47FA-915F-E3B47971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993-4757-445C-823E-1F8294B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3C0-ADFF-4542-B4CF-28DC6D66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CF5-202A-4142-99DC-07E51CB2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F55-9007-4EAB-B190-F89026C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451-9E8C-4976-A4D8-EBF1BAE1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8A603-3F53-4E66-B552-68F25B699B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