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74490"/>
        <c:axId val="32050367"/>
      </c:barChart>
      <c:catAx>
        <c:axId val="206744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0367"/>
        <c:crosses val="autoZero"/>
        <c:auto val="1"/>
        <c:lblAlgn val="ctr"/>
        <c:lblOffset val="100"/>
        <c:noMultiLvlLbl val="0"/>
      </c:catAx>
      <c:valAx>
        <c:axId val="320503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744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0D35-6C4A-462A-8F2E-35B683E0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69A8-9E00-4BA6-BF02-3A5C43DE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EC5-E328-47B3-9CB9-F1DCF0C4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A14-A28B-48EE-8078-3F0BC049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3A04-5DEE-4511-8782-EEC2B9D3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0D5-50E2-419D-911E-4622D3FD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C561-C97D-46E7-B850-5002DEE8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FDCE-EC0F-46EF-85EA-57FA8A59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984-824E-4CFE-A732-49EC2DDD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89B6-BDE5-4949-8A8A-48A42211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947-5D4C-45BC-91C0-B8D9D518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AA1E-7C65-4E7F-9968-D3B2AF9D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E7206-AE06-4A4F-BCD3-B929B3F707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