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24053"/>
        <c:axId val="43672752"/>
      </c:barChart>
      <c:catAx>
        <c:axId val="10224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72752"/>
        <c:crosses val="autoZero"/>
        <c:auto val="1"/>
        <c:lblAlgn val="ctr"/>
        <c:lblOffset val="100"/>
        <c:noMultiLvlLbl val="0"/>
      </c:catAx>
      <c:valAx>
        <c:axId val="43672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4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C99-C3B8-4FF1-B296-B2FBFB73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E8D-9931-43D2-8BEA-59DACEC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AEA-C9D9-4B58-AE8C-9A99F25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82D-B214-4CC7-A3D3-E3A90465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CF1-BB04-47C8-8B43-16E4660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125-C070-4C72-A4F3-358849E5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948-55A6-4007-91C6-B94566C7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B37-35B7-45A0-BF6A-7376B184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BA2-EE6B-4CE9-86D0-0341F4D7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204-C296-4E43-9EC3-87221E1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810-57BA-4CBB-AEA6-5795681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3CC-B8F9-4D83-B9A5-A9DFC3C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4A518-40AD-44BA-B872-9194A7B85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