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54507"/>
        <c:axId val="49976720"/>
      </c:barChart>
      <c:catAx>
        <c:axId val="71854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76720"/>
        <c:crosses val="autoZero"/>
        <c:auto val="1"/>
        <c:lblAlgn val="ctr"/>
        <c:lblOffset val="100"/>
        <c:noMultiLvlLbl val="0"/>
      </c:catAx>
      <c:valAx>
        <c:axId val="49976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54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743-7DC2-485F-B52C-EDE28472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BE0-C043-4A66-B211-EF23D08B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7C4-546F-46C9-9232-9301B79C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6A5-EF28-4564-AD08-07311E4D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844-B70C-49BE-BEC4-E82F1C93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AE2-3510-4245-8FC6-CBABFE0C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F31-4264-440E-9A99-07DA59FE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0A3-D25B-48AF-BD91-2B079832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214-DEFB-4B70-9A1C-029E102A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A2F-ED58-44AA-8803-6D0F6B9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E06-20DF-42C4-B55C-4802762F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305-54D9-42C0-AF85-3BED28C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F8DE6-452D-4842-A803-CF94901EA5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